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DD7-5AB4-4E17-813F-7992D376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08F-3E73-4EC6-8586-B97A372E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A4B-DDED-4A29-B950-61360E0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B32-BDFD-4C9F-A77F-90A8481B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537-C8F0-4E33-A80F-C83B80B3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1DF-CEA6-4475-B060-61AE88C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42E-95CA-4DFC-A4AF-1DC621CE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194-D303-40A2-9978-B523930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06B-A994-4365-AD48-7222CE7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FAE-A00B-4508-8ED0-9C9A441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82E-8557-4991-A8A8-116E790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067-7FF8-4B2F-98CE-FB5A3E4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234-E8F6-45F5-B631-D0308DFD1A7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6800" y="914400"/>
            <a:ext cx="7386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КОГА И КАК ЩЕ СЕ ОЧИСТИ</a:t>
            </a:r>
            <a:endParaRPr b="0" lang="en-US" sz="66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66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НЕБЕСНОТО СВЕТИЛИЩЕ ?</a:t>
            </a:r>
            <a:endParaRPr b="0" lang="en-US" sz="66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231920"/>
            <a:ext cx="9144000" cy="4528440"/>
          </a:xfrm>
          <a:prstGeom prst="rect">
            <a:avLst/>
          </a:prstGeom>
          <a:gradFill rotWithShape="0">
            <a:gsLst>
              <a:gs pos="0">
                <a:srgbClr val="000000">
                  <a:alpha val="48235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4 стих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“...70 седмици са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r>
              <a:rPr b="0" lang="bg-BG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ейски – 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чатак”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ени или отрязани от...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2 300 денонощия е отрязан период от 70 седмици или 490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одини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защото предстоят да станат много важни съб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е извърши умилостивение на греховет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е въведе вечна правд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пълнението на тези събития ще подпечата видението и ще му даде ход д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9124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48235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дете т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и 70 седмици са отделени специално за еврейския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320" y="76320"/>
            <a:ext cx="8991360" cy="1262160"/>
          </a:xfrm>
          <a:prstGeom prst="rect">
            <a:avLst/>
          </a:prstGeom>
          <a:gradFill rotWithShape="0">
            <a:gsLst>
              <a:gs pos="0">
                <a:srgbClr val="000000">
                  <a:alpha val="48235"/>
                </a:srgbClr>
              </a:gs>
              <a:gs pos="50000">
                <a:srgbClr val="000000">
                  <a:alpha val="44313"/>
                </a:srgbClr>
              </a:gs>
              <a:gs pos="100000">
                <a:srgbClr val="000000">
                  <a:alpha val="48235"/>
                </a:srgbClr>
              </a:gs>
            </a:gsLst>
            <a:lin ang="135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чалната точка на 2 300 денонощия е посочен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аил 9: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84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й, прочее, и разбери, че от издаването на заповедта да се съгради изново Ерусалим до княза Месия ще бъдат седем седмици и  шестдесет и две седмици и ще се съгради изново, с улици и с окоп, макар в размирни времен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5410080"/>
            <a:ext cx="8991360" cy="1373760"/>
          </a:xfrm>
          <a:prstGeom prst="rect">
            <a:avLst/>
          </a:prstGeom>
          <a:gradFill rotWithShape="0">
            <a:gsLst>
              <a:gs pos="0">
                <a:srgbClr val="0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 съответствие с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Ездра 7:1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указа за възстановявяне на Ерусалим</a:t>
            </a:r>
            <a:r>
              <a:rPr b="1" lang="bg-BG" sz="2800" spc="-1" strike="noStrike">
                <a:solidFill>
                  <a:srgbClr val="ffffcc"/>
                </a:solidFill>
                <a:latin typeface="Times New Roman"/>
              </a:rPr>
              <a:t>, издаден от вавилонския цар Артаксеркс,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влиз</a:t>
            </a:r>
            <a:r>
              <a:rPr b="1" lang="bg-BG" sz="28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в сила п</a:t>
            </a:r>
            <a:r>
              <a:rPr b="1" lang="bg-BG" sz="2800" spc="-1" strike="noStrike">
                <a:solidFill>
                  <a:srgbClr val="ffffcc"/>
                </a:solidFill>
                <a:latin typeface="Times New Roman"/>
              </a:rPr>
              <a:t>ре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457 г.пр. Х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562720"/>
            <a:ext cx="8991360" cy="1191240"/>
          </a:xfrm>
          <a:prstGeom prst="rect">
            <a:avLst/>
          </a:prstGeom>
          <a:gradFill rotWithShape="0">
            <a:gsLst>
              <a:gs pos="0">
                <a:srgbClr val="000082">
                  <a:alpha val="62352"/>
                </a:srgbClr>
              </a:gs>
              <a:gs pos="100000">
                <a:srgbClr val="ff8200">
                  <a:alpha val="64313"/>
                </a:srgbClr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давам указ щото всички, които са от Израеливите люде и от свещениците и левитите, в царството ми, които биха пожелали доброволно да идат в Ерусалим, да отидат с тебе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915160" y="1371600"/>
            <a:ext cx="19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32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5736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971880" y="19051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29520" y="2638440"/>
            <a:ext cx="1457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ябва да имаме в предвид  0-та година при преминаването от времето преди Христа към след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971880" y="19051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229520" y="2638440"/>
            <a:ext cx="1457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213372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62720" y="2124000"/>
            <a:ext cx="952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8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14560" y="3124080"/>
            <a:ext cx="1247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4191120"/>
            <a:ext cx="5334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5053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505320"/>
            <a:ext cx="0" cy="1523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76320" y="609480"/>
            <a:ext cx="399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0 седм. = 490 г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2209680"/>
            <a:ext cx="11523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КРЕТА</a:t>
            </a:r>
            <a:endParaRPr b="1" lang="en-US" sz="2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2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2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24640" y="2209680"/>
            <a:ext cx="117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733920"/>
            <a:ext cx="0" cy="9144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505320"/>
            <a:ext cx="457200" cy="3808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190760" y="3200400"/>
            <a:ext cx="205740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33920" y="2057400"/>
            <a:ext cx="1171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СИЯ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90920" y="4457880"/>
            <a:ext cx="2533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ОДИН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6324480"/>
            <a:ext cx="61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СЕДМ. + 62 СЕДМ. = 69 СЕДМ. /483 ГОДИНИ/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72360" y="4419720"/>
            <a:ext cx="5619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257880" y="14479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736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723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71760" y="3429000"/>
            <a:ext cx="1247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76720" y="2657520"/>
            <a:ext cx="1523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 сл. Х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3562200"/>
            <a:ext cx="866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43280" y="3552840"/>
            <a:ext cx="8762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8120" y="3867120"/>
            <a:ext cx="876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64832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4956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41972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44956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666880" y="419112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866960" y="474336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124080" y="4724280"/>
            <a:ext cx="476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 Black"/>
              </a:rPr>
              <a:t>7 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71960" y="3448080"/>
            <a:ext cx="1276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648320"/>
            <a:ext cx="22100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4956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44956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95880" y="3886200"/>
            <a:ext cx="0" cy="533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09680" y="781200"/>
            <a:ext cx="2028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676520"/>
            <a:ext cx="1247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-76320"/>
            <a:ext cx="8305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одир 62 седмици Месията ще бъде посечен..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аил 9 :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19720" y="2114640"/>
            <a:ext cx="1171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429000"/>
            <a:ext cx="54864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629160" y="1371600"/>
            <a:ext cx="1171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191120" y="213336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828800" y="3686040"/>
            <a:ext cx="194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5 години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33840" y="3686040"/>
            <a:ext cx="194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5 години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4197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й ще потвърди завет с мнозина за една седмица, а в половината на седмицата ще направи да престанат жертвата и приноса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Данаил 9: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01760" y="838080"/>
            <a:ext cx="82850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cc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. СЛУЖБИТЕ В ЗЕМНОТО СВЕТИЛИЩЕ :</a:t>
            </a:r>
            <a:endParaRPr b="0" lang="en-US" sz="5400" spc="1" strike="noStrike">
              <a:ln w="12600">
                <a:solidFill>
                  <a:srgbClr val="66cc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314784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ЕЖЕДНЕВНА</a:t>
            </a:r>
            <a:endParaRPr b="0" lang="en-US" sz="1800" spc="1" strike="noStrike">
              <a:ln w="9360">
                <a:solidFill>
                  <a:srgbClr val="9966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90800" y="4991040"/>
            <a:ext cx="1847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ГОДИШНА</a:t>
            </a:r>
            <a:endParaRPr b="0" lang="en-US" sz="1800" spc="1" strike="noStrike">
              <a:ln w="9360">
                <a:solidFill>
                  <a:srgbClr val="9966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972480" y="3147840"/>
            <a:ext cx="125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ЛИЧНА</a:t>
            </a:r>
            <a:endParaRPr b="0" lang="en-US" sz="1800" spc="1" strike="noStrike">
              <a:ln w="9360">
                <a:solidFill>
                  <a:srgbClr val="9966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09680" y="781200"/>
            <a:ext cx="2028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676520"/>
            <a:ext cx="1247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19720" y="2114640"/>
            <a:ext cx="1171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429000"/>
            <a:ext cx="54864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91120" y="213336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15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115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115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115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320" y="304920"/>
            <a:ext cx="5562360" cy="520560"/>
          </a:xfrm>
          <a:prstGeom prst="rect">
            <a:avLst/>
          </a:prstGeom>
          <a:gradFill rotWithShape="0">
            <a:gsLst>
              <a:gs pos="0">
                <a:srgbClr val="03d4a8">
                  <a:alpha val="58039"/>
                </a:srgbClr>
              </a:gs>
              <a:gs pos="50000">
                <a:srgbClr val="005cbf">
                  <a:alpha val="58039"/>
                </a:srgbClr>
              </a:gs>
              <a:gs pos="100000">
                <a:srgbClr val="03d4a8">
                  <a:alpha val="58039"/>
                </a:srgbClr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ия” означава “Помазани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191120"/>
            <a:ext cx="4572000" cy="1068840"/>
          </a:xfrm>
          <a:prstGeom prst="rect">
            <a:avLst/>
          </a:prstGeom>
          <a:gradFill rotWithShape="0">
            <a:gsLst>
              <a:gs pos="0">
                <a:srgbClr val="ccccff">
                  <a:alpha val="59215"/>
                </a:srgbClr>
              </a:gs>
              <a:gs pos="50000">
                <a:srgbClr val="ccccff">
                  <a:alpha val="58039"/>
                </a:srgbClr>
              </a:gs>
              <a:gs pos="100000">
                <a:srgbClr val="ccccff">
                  <a:alpha val="59215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а беше помазан Исус за служ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52880" y="76320"/>
            <a:ext cx="4114800" cy="6129000"/>
          </a:xfrm>
          <a:prstGeom prst="rect">
            <a:avLst/>
          </a:prstGeom>
          <a:gradFill rotWithShape="0">
            <a:gsLst>
              <a:gs pos="0">
                <a:srgbClr val="000082">
                  <a:alpha val="17254"/>
                </a:srgbClr>
              </a:gs>
              <a:gs pos="50000">
                <a:srgbClr val="ff8200">
                  <a:alpha val="12156"/>
                </a:srgbClr>
              </a:gs>
              <a:gs pos="100000">
                <a:srgbClr val="000082">
                  <a:alpha val="17254"/>
                </a:srgbClr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В петнадесетата година от царуването на Тиберия Кесаря, когато Понтий Пилат беше управител на Юдея, а Ирод четверовластник в Галилея 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Лука 3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562720" y="108000"/>
            <a:ext cx="3520800" cy="3385800"/>
          </a:xfrm>
          <a:prstGeom prst="rect">
            <a:avLst/>
          </a:prstGeom>
          <a:gradFill rotWithShape="0">
            <a:gsLst>
              <a:gs pos="0">
                <a:srgbClr val="005cbf">
                  <a:alpha val="60392"/>
                </a:srgbClr>
              </a:gs>
              <a:gs pos="100000">
                <a:srgbClr val="03d4a8">
                  <a:alpha val="41176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“ …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като се кръсти и Исус и се молеше, отвори се небе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Лука 3: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320" y="76320"/>
            <a:ext cx="8991360" cy="1556280"/>
          </a:xfrm>
          <a:prstGeom prst="rect">
            <a:avLst/>
          </a:prstGeom>
          <a:gradFill rotWithShape="0">
            <a:gsLst>
              <a:gs pos="0">
                <a:srgbClr val="03d4a8">
                  <a:alpha val="82352"/>
                </a:srgbClr>
              </a:gs>
              <a:gs pos="50000">
                <a:srgbClr val="005cbf">
                  <a:alpha val="82352"/>
                </a:srgbClr>
              </a:gs>
              <a:gs pos="100000">
                <a:srgbClr val="03d4a8">
                  <a:alpha val="82352"/>
                </a:srgbClr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тнадесетата година  от царуването на Тиберий Цезар беше точ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година сл. Х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сус беше кръстен в определеното в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92160" y="3962520"/>
            <a:ext cx="9236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 Светият Дух слезе върху Него в телесен образ като гълъб и чу се глас  от небето който казваше: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 Ти си Моя възлюбен С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 в Тебе е Моето благоволение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Times New Roman"/>
              </a:rPr>
              <a:t>Лука 3: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410080" y="380880"/>
            <a:ext cx="3657600" cy="61290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И Той ще потвърди завет с мнозина за една седмица, а в половината на седмицата ще направи да престанат жертвата и приносът…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Даниил 9: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209680" y="781200"/>
            <a:ext cx="2028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676520"/>
            <a:ext cx="1247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-76320"/>
            <a:ext cx="8305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одир 62 седмици Месията ще бъде посечен..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аил 9: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19720" y="2114640"/>
            <a:ext cx="1171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429000"/>
            <a:ext cx="54864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3048120"/>
            <a:ext cx="0" cy="1218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629160" y="1371600"/>
            <a:ext cx="1171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213336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28800" y="3686040"/>
            <a:ext cx="194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5 години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33840" y="3686040"/>
            <a:ext cx="194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5 години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4197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й ще потвърди завет с мнозина за една седмица, а в половината на седмицата ще направи да престанат жертвата и приноса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Данаил 9: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320" y="4971960"/>
            <a:ext cx="8991360" cy="180036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Тези стихове ни разкриват, че Месия ще умре на кръста в четиринадесетия ден от първия месец по еврейския календар през 31 година сл. Хр. Това пророчество се е изпълнило с всички детай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257880" y="14479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736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86080" y="1895400"/>
            <a:ext cx="723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71760" y="3429000"/>
            <a:ext cx="1247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76720" y="2657520"/>
            <a:ext cx="1523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 сл. Х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3562200"/>
            <a:ext cx="866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18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43280" y="3552840"/>
            <a:ext cx="8762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8120" y="3867120"/>
            <a:ext cx="876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64832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44956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441972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4956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666880" y="419112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66960" y="474336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24080" y="4724280"/>
            <a:ext cx="476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 Black"/>
              </a:rPr>
              <a:t>7 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71960" y="3448080"/>
            <a:ext cx="1276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3552840"/>
            <a:ext cx="8380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67560" y="3809880"/>
            <a:ext cx="8762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38680" y="4857840"/>
            <a:ext cx="9525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4648320"/>
            <a:ext cx="22100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44956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44956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3886200"/>
            <a:ext cx="0" cy="533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15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115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115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115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96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>
    <p:zoom dir="ou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22056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320" y="4971960"/>
            <a:ext cx="8991360" cy="1800360"/>
          </a:xfrm>
          <a:prstGeom prst="rect">
            <a:avLst/>
          </a:prstGeom>
          <a:gradFill rotWithShape="0">
            <a:gsLst>
              <a:gs pos="0">
                <a:srgbClr val="000000">
                  <a:alpha val="58039"/>
                </a:srgbClr>
              </a:gs>
              <a:gs pos="100000">
                <a:srgbClr val="000000">
                  <a:alpha val="58039"/>
                </a:srgbClr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34 г. сл. Хр. евреите убиват дякон Стефан и с това приключва благодатното им време като богоизбрана нация. От този момент евангелието се проповядва сред езични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6320" y="5398920"/>
            <a:ext cx="8915400" cy="14346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И каза ми: До две хиляди и триста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енонощия; тогава светилището ще се очисти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Даниил 8: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71880" y="19051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352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229520" y="2638440"/>
            <a:ext cx="1457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213372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62720" y="2124000"/>
            <a:ext cx="952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8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4560" y="3124080"/>
            <a:ext cx="1247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38080" y="3200400"/>
            <a:ext cx="571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523880" y="3448080"/>
            <a:ext cx="6480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7 г. 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0" y="344808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8862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057040" y="3580920"/>
            <a:ext cx="2286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47920" y="3962520"/>
            <a:ext cx="581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.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0" y="3933720"/>
            <a:ext cx="333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г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352680" y="320040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2657520"/>
            <a:ext cx="1209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 сл. Хр.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00400" y="342900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381560" y="3352680"/>
            <a:ext cx="571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9625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114800" y="35053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5812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9880" y="405756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15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1155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115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115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320" y="5867280"/>
            <a:ext cx="899136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т 1844 г. ние живеем във времето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което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Библията нарич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Часът на Божия съд”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0480" y="5334120"/>
            <a:ext cx="9007200" cy="14346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 понеже Христос дойде като първосвещеник … и чрез Собствената Си кръв  придоби за нас вечно изкупление.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Евреи 9:11,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6320" y="5398920"/>
            <a:ext cx="8991360" cy="137376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Защото Христос влезе не в ръкотворено светилище, образ на истинското, но в самите небеса, да се яви вече пред Божието лице за нас.”</a:t>
            </a:r>
            <a:r>
              <a:rPr b="1" lang="bg-BG" sz="28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Евреи 9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62120" y="838080"/>
            <a:ext cx="735480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V. КАК ЩЕ СТАНЕ ОЧИСТВАНЕТО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НА НЕБЕСНОТО СВЕТИЛИЩЕ ?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81080" y="380880"/>
            <a:ext cx="5019840" cy="24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 </a:t>
            </a:r>
            <a:endParaRPr b="0" lang="en-US" sz="54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СЛЕДОВАТЕЛЕН</a:t>
            </a:r>
            <a:endParaRPr b="0" lang="en-US" sz="54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ЪД</a:t>
            </a:r>
            <a:endParaRPr b="0" lang="en-US" sz="54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114800"/>
            <a:ext cx="8991360" cy="2715120"/>
          </a:xfrm>
          <a:prstGeom prst="rect">
            <a:avLst/>
          </a:prstGeom>
          <a:gradFill rotWithShape="0">
            <a:gsLst>
              <a:gs pos="0">
                <a:srgbClr val="000000">
                  <a:alpha val="54117"/>
                </a:srgbClr>
              </a:gs>
              <a:gs pos="50000">
                <a:srgbClr val="000000">
                  <a:alpha val="53333"/>
                </a:srgbClr>
              </a:gs>
              <a:gs pos="100000">
                <a:srgbClr val="000000">
                  <a:alpha val="54117"/>
                </a:srgbClr>
              </a:gs>
            </a:gsLst>
            <a:lin ang="81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едах догдето се положиха престоли и Стария по дни седна, чието облекло беше бяло като сняг и космите на главата Му като чиста вълна, престолът Му – огнени пламъци и колелата Му пламенен огън. Огнена река излизаше и течеше пред Нег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илион служители Му слугуваха и мириарди по мириарди стояха пред Нег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ъдилището се откри и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нигите се отвориха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”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аил 7:9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5935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7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320" y="4305240"/>
            <a:ext cx="8991360" cy="2471400"/>
          </a:xfrm>
          <a:prstGeom prst="rect">
            <a:avLst/>
          </a:prstGeom>
          <a:gradFill rotWithShape="0">
            <a:gsLst>
              <a:gs pos="0">
                <a:srgbClr val="000000">
                  <a:alpha val="31372"/>
                </a:srgbClr>
              </a:gs>
              <a:gs pos="100000">
                <a:srgbClr val="000000">
                  <a:alpha val="33333"/>
                </a:srgbClr>
              </a:gs>
            </a:gsLst>
            <a:lin ang="135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гава чух един свет да говори и друг свет рече на този, който говореше: До кога ще се простира видението за всегдашната жертва и за престъплението, което докара запустение, когато светилището и множеството ще бъдат потъпквани? И каза ми: До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300 денонощия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огава светилището ще се очисти .”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ил 8:13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457200"/>
            <a:ext cx="8077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>
                        <a:alpha val="80392"/>
                      </a:srgbClr>
                    </a:gs>
                    <a:gs pos="50000">
                      <a:srgbClr val="ff66ff">
                        <a:alpha val="80392"/>
                      </a:srgbClr>
                    </a:gs>
                    <a:gs pos="100000">
                      <a:srgbClr val="9966ff">
                        <a:alpha val="80392"/>
                      </a:srgbClr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I. КОГА ЩЕ СЕ ОЧИСТИ НЕБЕСНОТО СВЕТИЛИЩЕ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>
                      <a:alpha val="80392"/>
                    </a:srgbClr>
                  </a:gs>
                  <a:gs pos="50000">
                    <a:srgbClr val="ff66ff">
                      <a:alpha val="80392"/>
                    </a:srgbClr>
                  </a:gs>
                  <a:gs pos="100000">
                    <a:srgbClr val="9966ff">
                      <a:alpha val="80392"/>
                    </a:srgbClr>
                  </a:gs>
                </a:gsLst>
                <a:lin ang="135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971880" y="19051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52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229520" y="2638440"/>
            <a:ext cx="1457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19320" y="213372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562720" y="2124000"/>
            <a:ext cx="952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8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14560" y="3124080"/>
            <a:ext cx="1247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3200400"/>
            <a:ext cx="571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3880" y="3448080"/>
            <a:ext cx="6480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7 г. 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0" y="344808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38862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057040" y="3580920"/>
            <a:ext cx="2286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47920" y="3962520"/>
            <a:ext cx="581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.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0" y="3933720"/>
            <a:ext cx="333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г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352680" y="320040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09680" y="2657520"/>
            <a:ext cx="1209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 сл. Хр.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00400" y="342900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381560" y="3352680"/>
            <a:ext cx="571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9625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14800" y="35053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35812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405756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15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1155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115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115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943600" y="3067200"/>
            <a:ext cx="2057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20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1905120"/>
            <a:ext cx="952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8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38680" y="4114800"/>
            <a:ext cx="27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ВЕЛИ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ИЗСЛЕДОВАТЕ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СЪ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6320" y="96840"/>
            <a:ext cx="8991360" cy="1201320"/>
          </a:xfrm>
          <a:prstGeom prst="rect">
            <a:avLst/>
          </a:prstGeom>
          <a:gradFill rotWithShape="0">
            <a:gsLst>
              <a:gs pos="0">
                <a:srgbClr val="ccccff">
                  <a:alpha val="59215"/>
                </a:srgbClr>
              </a:gs>
              <a:gs pos="50000">
                <a:srgbClr val="ccccff">
                  <a:alpha val="61176"/>
                </a:srgbClr>
              </a:gs>
              <a:gs pos="100000">
                <a:srgbClr val="ccccff">
                  <a:alpha val="59215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..съдилището се откри и книгите се отвориха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ил 7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6320" y="4183200"/>
            <a:ext cx="8915400" cy="26107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000000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ГАТА 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 него /новия Ерусалим/ никак няма да влезе нищо нечисто, нито оня, който върши мерзост и който лъже, а само записаните в книгата на живота на Агнето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вение 21 :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6320" y="3452760"/>
            <a:ext cx="8991360" cy="3363840"/>
          </a:xfrm>
          <a:prstGeom prst="rect">
            <a:avLst/>
          </a:prstGeom>
          <a:gradFill rotWithShape="0">
            <a:gsLst>
              <a:gs pos="0">
                <a:srgbClr val="000082">
                  <a:alpha val="42352"/>
                </a:srgbClr>
              </a:gs>
              <a:gs pos="50000">
                <a:srgbClr val="ff8200">
                  <a:alpha val="44313"/>
                </a:srgbClr>
              </a:gs>
              <a:gs pos="100000">
                <a:srgbClr val="000082">
                  <a:alpha val="4235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НИГАТА НА ИНДИВИДУАЛНОТО 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Ще те славя, защото страшно и чудно съм направен. Чудни са Твоите дела и душата ми добре знае това. Костникът ми не се укри от Тебе, когато в тайна се работех и в дълбочината на земята ми се даваше разнообразната ми форма. Твоите очи видяха необразуваното ми вещество и в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ята книга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яха записани всичките ми определени дни, докато още не съществуваше ни един от тях.”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алм 139:14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320" y="4548240"/>
            <a:ext cx="8915400" cy="2266560"/>
          </a:xfrm>
          <a:prstGeom prst="rect">
            <a:avLst/>
          </a:prstGeom>
          <a:gradFill rotWithShape="0">
            <a:gsLst>
              <a:gs pos="0">
                <a:srgbClr val="00003b">
                  <a:alpha val="76078"/>
                </a:srgbClr>
              </a:gs>
              <a:gs pos="50000">
                <a:srgbClr val="000082">
                  <a:alpha val="76078"/>
                </a:srgbClr>
              </a:gs>
              <a:gs pos="100000">
                <a:srgbClr val="00003b">
                  <a:alpha val="76078"/>
                </a:srgbClr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НИГАТА НА ВЪЗПОМИНА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гава  боещите се от Господа говареха един на друг и Господ внимаваше и слушаше и написа се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ъзпоменателна книга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 него за ония, които се боеха от Господа и които мислиха за името Му.”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ахия 3: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6320" y="3573360"/>
            <a:ext cx="8991360" cy="3281040"/>
          </a:xfrm>
          <a:prstGeom prst="rect">
            <a:avLst/>
          </a:prstGeom>
          <a:gradFill rotWithShape="0">
            <a:gsLst>
              <a:gs pos="0">
                <a:srgbClr val="8c3d91">
                  <a:alpha val="70196"/>
                </a:srgbClr>
              </a:gs>
              <a:gs pos="100000">
                <a:srgbClr val="000000">
                  <a:alpha val="64313"/>
                </a:srgbClr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НИГА НА ГРЕХ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то,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но е пред Мене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ама да мълча, но ще въздам. Да! Ще въздам в пазухите им, както за вашите беззакония, казва Господ, така и за беззаконията на бащите ви...”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ая 65:6,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о и да се омиеш с луга и да употребиш много сапун, пак твоето беззаконие си остава петно пред Мене, казва Господ Йова.”</a:t>
            </a:r>
            <a:r>
              <a:rPr b="1" i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емия 2: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38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38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0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6320" y="3843360"/>
            <a:ext cx="8991360" cy="2968560"/>
          </a:xfrm>
          <a:prstGeom prst="rect">
            <a:avLst/>
          </a:prstGeom>
          <a:gradFill rotWithShape="0">
            <a:gsLst>
              <a:gs pos="0">
                <a:srgbClr val="000000">
                  <a:alpha val="51372"/>
                </a:srgbClr>
              </a:gs>
              <a:gs pos="100000">
                <a:srgbClr val="000000">
                  <a:alpha val="56078"/>
                </a:srgbClr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ато бъдат разгледани случаите на всички вярващи хора, благодатното време се прекратя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йто върши неправда, нека върши и за напред неправд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който е нечист, нека бъде и за напред нечис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праведният нека върши и за напред правда, и светият нека бъде и за напред свет.”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. 22: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>
    <p:zoom dir="ou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6" dur="15035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1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93680" y="657360"/>
            <a:ext cx="50641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ДОБРАТА НОВИНА ЗА СЪДА</a:t>
            </a:r>
            <a:endParaRPr b="0" lang="en-US" sz="4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676520"/>
            <a:ext cx="44956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 този съд Исус е наш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ЪД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А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СТЪП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ИДЕ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МЕСТНИ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Щ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29200" y="4467240"/>
            <a:ext cx="37688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ТОЙ НЯМА</a:t>
            </a:r>
            <a:endParaRPr b="0" lang="en-US" sz="4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4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ДА НИ ОСЪДИ !</a:t>
            </a:r>
            <a:endParaRPr b="0" lang="en-US" sz="4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76320"/>
            <a:ext cx="8991360" cy="1108440"/>
          </a:xfrm>
          <a:prstGeom prst="rect">
            <a:avLst/>
          </a:prstGeom>
          <a:gradFill rotWithShape="0">
            <a:gsLst>
              <a:gs pos="0">
                <a:srgbClr val="fff200">
                  <a:alpha val="23137"/>
                </a:srgbClr>
              </a:gs>
              <a:gs pos="100000">
                <a:srgbClr val="4d0808">
                  <a:alpha val="21176"/>
                </a:srgbClr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щабната мярка за пророчески периоди е </a:t>
            </a:r>
            <a:r>
              <a:rPr b="1" lang="bg-BG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ен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=</a:t>
            </a:r>
            <a:r>
              <a:rPr b="1" lang="bg-BG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година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по един де ти определих за всяка година.”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bg-BG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зекил 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133720"/>
            <a:ext cx="464832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ил недоумява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А казаното за денонощията е вярно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;</a:t>
            </a:r>
            <a:r>
              <a:rPr b="1" lang="bg-BG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все пак, обаче, запечатай видението, защото се отнася за далечните последни дни. Тогава аз Данаил премрях, и боледувах няколко дни...А чудех се за видението, защото никой не го разбираше.”</a:t>
            </a:r>
            <a:r>
              <a:rPr b="1" i="1" lang="bg-BG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ил 8:26,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6320" y="3276720"/>
            <a:ext cx="8991360" cy="42076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ус заедно със спасените получават царство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едах в нощните видения и ето един като  човешки син, идещ с облаците и стигна до Стария по дни и доведоха го пред Него. И Нему се даде владичество, слава и царство, за да Му слугуват всички племена, народи и езици. Неговото владичество е вечно владичество, което няма да премине и царството Му е</a:t>
            </a:r>
            <a:r>
              <a:rPr b="1" lang="bg-BG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арство, което няма да се разруши.”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ил 7:13, 14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971880" y="1905120"/>
            <a:ext cx="120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300 дн</a:t>
            </a:r>
            <a:endParaRPr b="0" lang="en-US" sz="20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2638440"/>
            <a:ext cx="1323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пр. Хр.</a:t>
            </a:r>
            <a:endParaRPr b="0" i="1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229520" y="2638440"/>
            <a:ext cx="1457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844 г. сл. Хр.</a:t>
            </a:r>
            <a:endParaRPr b="0" lang="en-US" sz="14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19320" y="213372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9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62720" y="2124000"/>
            <a:ext cx="952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8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14560" y="3124080"/>
            <a:ext cx="1247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0 седм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38080" y="3200400"/>
            <a:ext cx="571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7 г. 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. Хр.</a:t>
            </a:r>
            <a:endParaRPr b="1" lang="en-US" sz="1200" spc="1" strike="noStrike">
              <a:ln w="9360">
                <a:solidFill>
                  <a:srgbClr val="ff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23880" y="3448080"/>
            <a:ext cx="6480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7 г. 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1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0" y="344808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8862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8862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057040" y="3580920"/>
            <a:ext cx="2286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447920" y="3962520"/>
            <a:ext cx="581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83 г.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0" y="3933720"/>
            <a:ext cx="333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г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352680" y="320040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</a:rPr>
              <a:t>7 годин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209680" y="2657520"/>
            <a:ext cx="1209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 сл. Хр.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00400" y="342900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7 г. 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81560" y="3352680"/>
            <a:ext cx="571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4 г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л. Хр.</a:t>
            </a:r>
            <a:endParaRPr b="0" lang="en-US" sz="12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9625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114800" y="35053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35812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9880" y="4057560"/>
            <a:ext cx="571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1 г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. Хр.</a:t>
            </a:r>
            <a:endParaRPr b="1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286760" y="2990880"/>
            <a:ext cx="1323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СЛЕДОВАТЕЛЕН</a:t>
            </a:r>
            <a:endParaRPr b="0" lang="en-US" sz="1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ЪД</a:t>
            </a:r>
            <a:endParaRPr b="0" lang="en-US" sz="1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320" y="4732200"/>
            <a:ext cx="8991360" cy="2044440"/>
          </a:xfrm>
          <a:prstGeom prst="rect">
            <a:avLst/>
          </a:prstGeom>
          <a:gradFill rotWithShape="0">
            <a:gsLst>
              <a:gs pos="0">
                <a:srgbClr val="000000">
                  <a:alpha val="59215"/>
                </a:srgbClr>
              </a:gs>
              <a:gs pos="50000">
                <a:srgbClr val="000000">
                  <a:alpha val="63137"/>
                </a:srgbClr>
              </a:gs>
              <a:gs pos="100000">
                <a:srgbClr val="000000">
                  <a:alpha val="59215"/>
                </a:srgbClr>
              </a:gs>
            </a:gsLst>
            <a:lin ang="135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като имаме велик Свещеник над Божия дом, нека пристъпваме с искрено сърце в пълна вяра, със сърца очистени от лукава съвест и тяло измито в чиста вода. Нека държим непоколебимо надеждата, която изповядваме, защото е верен Оня, Който се е обещал.”</a:t>
            </a:r>
            <a:r>
              <a:rPr b="1" lang="bg-BG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</a:t>
            </a:r>
            <a:r>
              <a:rPr b="1" lang="bg-BG" sz="3200" spc="-1" strike="noStrike">
                <a:solidFill>
                  <a:srgbClr val="a4a4e8"/>
                </a:solidFill>
                <a:latin typeface="Times New Roman"/>
                <a:ea typeface="Times New Roman"/>
              </a:rPr>
              <a:t>Евреи 10:21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2209680" y="7621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Евреи 4 : 16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676520"/>
            <a:ext cx="4419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това, нека пристъпваме с дръзновение към престола на благодатта, за да придобием милост и да намерим благодат, която да помага благовременно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95280"/>
            <a:ext cx="5334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предните стихове на тази глава 1 – 12 ст., научаваме, че през времето на тези 2 300 денонощия на световната сцена ще се появят 3 световни имп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ела обясни, че видението се отнася </a:t>
            </a:r>
            <a:r>
              <a:rPr b="1" i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за далечните последни дни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8760"/>
            <a:ext cx="8991360" cy="82548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ното светилище се очистваше веднъж в годината, а тук се говори за 2300 дни /това е повече от 6 години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-304920" y="331920"/>
            <a:ext cx="5943600" cy="23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II. КОГА ЗАПОЧВАТ И ЗАВЪРШВАТ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300 ДЕНОНОЩИЯ ?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440"/>
            <a:ext cx="9144000" cy="7392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918480"/>
          </a:xfrm>
          <a:prstGeom prst="rect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50000">
                <a:srgbClr val="000000">
                  <a:alpha val="47058"/>
                </a:srgbClr>
              </a:gs>
              <a:gs pos="100000">
                <a:srgbClr val="0000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 години по-късно Данаил продължава да се моли и в отговор Бог изпраща ангел Гавраил, за да му даде пояс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дори още като говорех в молитва, мъжът Гавраил, когото бях видял във видението по-напред, като летеше бързо се приближи до мене около часа на вечерната жертва. И вразуми ме като говори с мене, казвайки: Данаиле, сега излязох да те направя способен да разбереш. Когато ти почна да се молиш заповедта излезе и аз дойдох да ти кажа това, защото си възлюбен. Затова размисли за работата и разбери видението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1" lang="bg-BG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наил 9:21–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4800600"/>
            <a:ext cx="8991360" cy="1983600"/>
          </a:xfrm>
          <a:prstGeom prst="rect">
            <a:avLst/>
          </a:prstGeom>
          <a:gradFill rotWithShape="0">
            <a:gsLst>
              <a:gs pos="0">
                <a:srgbClr val="000082">
                  <a:alpha val="68235"/>
                </a:srgbClr>
              </a:gs>
              <a:gs pos="50000">
                <a:srgbClr val="ff8200">
                  <a:alpha val="71372"/>
                </a:srgbClr>
              </a:gs>
              <a:gs pos="100000">
                <a:srgbClr val="000082">
                  <a:alpha val="68235"/>
                </a:srgbClr>
              </a:gs>
            </a:gsLst>
            <a:lin ang="135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Седемдесет седмици са определени за людете ти </a:t>
            </a:r>
            <a:r>
              <a:rPr b="1" lang="bg-BG" sz="2400" spc="-1" strike="noStrike">
                <a:solidFill>
                  <a:srgbClr val="ffff00"/>
                </a:solidFill>
                <a:latin typeface="Times New Roman"/>
              </a:rPr>
              <a:t>и за светият ти град за въздържане на престъпленито, за довършване на греховете и за правене на умилостивение за беззаконието, да се въведа вечна правда, да се запечата видението и пророчеството и да се помаже Пресвятият.”</a:t>
            </a:r>
            <a:r>
              <a:rPr b="1" i="1" lang="bg-BG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Даниил 9:24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5:21:01Z</dcterms:created>
  <dc:creator>Yrifon</dc:creator>
  <dc:description/>
  <dc:language>en-US</dc:language>
  <cp:lastModifiedBy>TrifonTrifonow</cp:lastModifiedBy>
  <dcterms:modified xsi:type="dcterms:W3CDTF">2006-01-18T09:28:42Z</dcterms:modified>
  <cp:revision>325</cp:revision>
  <dc:subject/>
  <dc:title>Slide 1</dc:title>
</cp:coreProperties>
</file>